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F43-A637-46E7-B902-7D3C7FE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046-C489-466B-9DE2-31AAA3E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CA6-C185-4248-B5BD-89100A26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E0F-DA42-4007-93FA-0E6AF84E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17AC-8D77-40B9-BACC-CEA45F36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1E7-4D8C-4F20-ABEA-0677BC6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DB53-11F2-420B-8892-AB231778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A3B2-33C5-4C50-A0E7-EE26532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3299-F698-48BB-9BF3-9E7574CA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521-6B50-4888-A8A7-15F7326C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995-A3BF-4610-83D0-C9D6750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AC8-5F9E-42A7-A855-B3BCBCC8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FA9D-A1AD-442F-B15D-249C099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F870-64ED-42FD-B4E0-52D3741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8F06-F4B3-421B-87F4-68820DFA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26A-4BB5-4BEF-9434-1E83234C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C9B5-3EC4-4662-BBBA-3F1F91BE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4DD-1131-4A2A-B74C-DA063CE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6DC-481E-4624-8C3E-8456C495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81D-136A-44F4-ADD6-39F7E59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C6F-2682-4DF0-8942-ADE4626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36E-A7DC-4ABD-844D-6D7143F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547-1E12-4E1B-831D-87ABD87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70B-1379-4AF1-9AED-8EDC3E2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63179-0A49-486B-B5BE-4D1DB9401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A4C03-4DFA-42A7-9FB3-6A7D92930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4280" y="2943360"/>
            <a:ext cx="615636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The Boston Tea Party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2880" y="7952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o Did it happen to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39400" y="267984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to the Bri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30080" y="3380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at hapened?            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2749680"/>
            <a:ext cx="777564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cember 16, colonists disguised as American Indians, snuck onto the three tea-filled ships. After dumping 342 tea chests into the Boston harbor, the colonists headed home to remove their disqu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5680" y="3380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en did it happen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67984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on December 16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6 and 9 p.m. In 17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4280" y="885960"/>
            <a:ext cx="615636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ere did it happen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at the Boston Har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952200"/>
            <a:ext cx="98298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y did it happen, and what was the outcome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39400" y="251460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because of the taxes on tea and because of this Paliament created new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16:10Z</dcterms:created>
  <dc:creator/>
  <dc:description/>
  <dc:language>en-US</dc:language>
  <cp:lastModifiedBy/>
  <cp:revision>1</cp:revision>
  <dc:subject/>
  <dc:title/>
</cp:coreProperties>
</file>